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733D4-D7E6-4407-A90D-254EEC29DD2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Kingdom Protista</a:t>
            </a:r>
            <a:br>
              <a:rPr sz="1200"/>
            </a:b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The Catchall Kingdom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dom Protista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tchall King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Phaeophy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Brown alga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Marin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Seaweed and kelp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Cooler areas of ocean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Fucoxanthin pigment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Store food as laminarin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ALL multicellular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Stemlike stip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Leaflike region called blad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Phaeop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wn alg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aweed and kel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oler areas of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ucoxanthin pig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ore food as laminar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 multicell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mlike st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aflike region called bl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Rhodophy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Red algae but colors vary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Marine seaweed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Smaller than brown algae and live in deeper water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cobilins – pigment for absorbing light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Some coated with polysaccharide carageenan – cosmetics, gel capsules, cheese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Agar – extracted from cell walls of red alga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Rhodop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 algae but colors v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rine seaw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maller than brown algae and live in deeper wa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cobilins – pigment for absorbing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coated with polysaccharide carageenan – cosmetics, gel capsules, chee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gar – extracted from cell walls of red alg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Phylum Bacillariophy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Diatom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Shells fit together like a box with a lid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Centric and pennat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Main component of phytoplankton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Diatomaceous earth 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lum Bacillariop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lls fit together like a box with a l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ic and pen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 component of phytoplank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tomaceous ear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Dinoflagella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Dinoflagellate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Small, unicellular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Most photosynthetic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Some bioluminescent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Red tide a problem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Dinoflagell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noflagel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mall, unicell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st photosynthe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bioluminesc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 tide a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Alga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Chrysophy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Golden alga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Most fresh water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Form cyst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2 flagell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Carotenoids give color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Important for formation of petroleum deposit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Chrysop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lden alg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st fresh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m cy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 flage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otenoids give co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mportant for formation of petroleum depos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Phylum Euglenophy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Euglenoid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Plant-like and animal-like characteristic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Many have cholorphyll and are photosynthetic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No cell wall, motil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Most live in fresh water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See picture on page 533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lum Euglenop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gleno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-like and animal-like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have cholorphyll and are photosynthe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ell wall, mot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live in fresh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picture on page 5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Fungus-like protist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Slime molds: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acrasiomyco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Cellular slime mold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Amoeboid movement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Myxomyco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lasmodial slime mold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Mass of plasmodium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Water mold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Oomyco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Blight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Chytridiomyco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Chytrid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Zoospores with one flagellum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Maybe fungi?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ungus-like prot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lime mol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acrasiomyco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ular slime m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oeboid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Myxomyco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smodial slime m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ss of plasmo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ter m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Oomyco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Chytridiomyco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ytr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oospores with one flagel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ybe fungi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Slime mold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lime m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Water mold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ter m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Characteristics of Alga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Autotrophic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Not plants – why?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Often contain pyrenoid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Alg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troph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plants – 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ten contain pyreno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Chytrid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ytr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The END….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END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Structure of Alga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Thallus or body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Unicellular or multicellular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Colonial:  Volvoz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Filamentous:  Spirogyr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Multicellular:  Ulv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Asexual and sexual reproduction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e of Alg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allus or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cellular or multicell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onial:  Volvo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lamentous:  Spirogy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ulticellular:  Ul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exual and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Chlorophy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Phaeophy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Rhodophy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Bacillariophy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Dinoflagella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Chrysophy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a Euglenohy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Chlorop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Phaeop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Rhodop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Bacillariop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Dinoflagell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Chrysop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a Eugleno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Phylum Chlorophy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Look 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familiar?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Chlorop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o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milia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Continued…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Green alga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Many different form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Gave rise to land plants – why?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Choroplasts that contain a and b cholorphyll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Have carotenoid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Cell walls of cellulose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ed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 alg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different 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ve rise to land plants – 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roplasts that contain a and b cholorphy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caroteno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walls of cellu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Ulv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l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66"/>
                </a:solidFill>
                <a:latin typeface="Arial"/>
              </a:rPr>
              <a:t>Colonial Chlorophyta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onial Chlorophy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29DA-A97C-4932-B692-E98C83793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75C6-3828-4C47-8B06-3AAFB4BE9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D34E-D753-4FF0-ADD9-74FF3C186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C61A-E963-4CE5-B907-742F3A3BB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2659B-FDAE-4FD2-A791-4CD5EAFE4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FB75D-F699-427E-B8D9-85CC242E7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14AD9-6D72-4D75-89B6-32BFA3051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6E05D-A279-4CA8-BB46-9E879C513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F2A22-9393-4DD0-8FFC-E0AF23FA1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8D1D8-4E9A-460C-B215-ED978A129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9EF33-C0D4-464F-95A9-34265F25D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C45C-5320-45A6-80FD-05E5D62F6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08EFA-3210-4B49-90B8-A8F2BB662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E99AD-1EF7-4AAD-BF3F-BFFC8A4B2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E1801-64EC-47F3-953C-05BD08D58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1749A-61A3-4430-AF50-E2B011BA8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4AF71-A61A-4A4F-A745-43AABB641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618FD-CD53-4D78-9C07-32E893974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0DEB2-E92B-4BC8-8239-187EB9CF2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E6FC6-3158-443A-91E1-641CD4A54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24BD4-B233-4AF7-B354-77FA9D9C7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C5099-DCB5-4EBD-93FE-E27C2C0A9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893B-7577-4F96-A1BB-1D653939C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6FBE3-D91A-4DD4-A21E-6F394C9FA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1C2EF-3367-4997-A5C5-A04010F24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32E60-0F01-42F6-B86E-E4ACF1BA0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5A25A-50DD-4567-8BFF-798ED18F6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82346-2064-4BEA-96AD-20F6FE995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81454-C7E2-4486-9B3B-44A26718D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DC509-CC01-4423-93E0-8E41D3741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06A9B0-0169-4B4B-937C-0605F2E1A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BA888-4AAF-4A70-AE04-45EFA5FEF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C0582-225B-4AE1-BFA0-8043C3F1C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5530-0993-40B9-AAC9-91D5F6E0E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2FBAD-5B08-4B55-9128-1EA1E796A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F9BE4-82E9-4D1B-BF43-BBA1DADAE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B6E20-DE3F-4F46-9F73-9FB26C262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77A24-1383-4295-A62A-18E242FBB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D29DA-847F-4E9C-B40B-E60C10D12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112A8-91A1-492F-B27E-5C35A2016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63A6A-7F8F-4607-9A41-66EEC9EEA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C2B8B-55A0-421F-A9C3-E3BB15D48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284B9-6EB8-44F5-BDD7-AD6F83AC0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CE09-1082-470A-9C57-BC52C2E32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D544-E651-4882-AC46-3C8146D0E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72C0-04E5-45A8-9022-46303A4A8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506A-C762-4B39-AEFA-11303C0A5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CAC3-DA5B-494A-A1F4-8F350A7A0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32744-A21C-45FA-ADB4-34D16F9B14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D08C6-9B8A-4E31-BAF5-519BC240D8E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5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53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54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55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56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57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58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59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60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61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62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63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6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65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66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67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6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69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70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71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7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73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74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75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76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77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78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79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80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81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82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0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1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2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7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8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9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ECFB9-FB22-4B5E-A428-4D486A0B6E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pSp>
        <p:nvGrpSpPr>
          <p:cNvPr id="16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6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6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6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6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sp>
        <p:nvSpPr>
          <p:cNvPr id="19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C92E2-D1C6-41AD-95C4-CB1C0085086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Kingdom Protista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e Catchall Kingdo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hylum Phaeophyt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own alga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ri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aweed and kel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oler areas of oce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coxanthin pig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ore food as laminar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multicell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emlike stip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flike region called bla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5" descr="laminaria"/>
          <p:cNvPicPr/>
          <p:nvPr/>
        </p:nvPicPr>
        <p:blipFill>
          <a:blip r:embed="rId1"/>
          <a:stretch/>
        </p:blipFill>
        <p:spPr>
          <a:xfrm>
            <a:off x="1143000" y="228600"/>
            <a:ext cx="6781680" cy="64008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hylum Rhodophyt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d algae but colors va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rine seawee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maller than brown algae and live in deeper wat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hycobilins – pigment for absorbing ligh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coated with polysaccharide carageenan – cosmetics, gel capsules, chee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gar – extracted from cell walls of red alga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0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5" descr="Rhodophyta"/>
          <p:cNvPicPr/>
          <p:nvPr/>
        </p:nvPicPr>
        <p:blipFill>
          <a:blip r:embed="rId1"/>
          <a:stretch/>
        </p:blipFill>
        <p:spPr>
          <a:xfrm>
            <a:off x="1143000" y="838080"/>
            <a:ext cx="6400800" cy="52578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5" descr="rhodophyta7"/>
          <p:cNvPicPr/>
          <p:nvPr/>
        </p:nvPicPr>
        <p:blipFill>
          <a:blip r:embed="rId1"/>
          <a:stretch/>
        </p:blipFill>
        <p:spPr>
          <a:xfrm>
            <a:off x="2057400" y="609480"/>
            <a:ext cx="4952880" cy="59436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hylum Bacillariophyt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ato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hells fit together like a box with a l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entric and penn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in component of phytoplankt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atomaceous earth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5" descr="Diatoms2"/>
          <p:cNvPicPr/>
          <p:nvPr/>
        </p:nvPicPr>
        <p:blipFill>
          <a:blip r:embed="rId1"/>
          <a:stretch/>
        </p:blipFill>
        <p:spPr>
          <a:xfrm>
            <a:off x="304920" y="76212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hylum Dinoflagellat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noflagella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mall, unicellul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photosynthet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bioluminesc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d tide a probl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0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5" descr="noctiluca"/>
          <p:cNvPicPr/>
          <p:nvPr/>
        </p:nvPicPr>
        <p:blipFill>
          <a:blip r:embed="rId1"/>
          <a:stretch/>
        </p:blipFill>
        <p:spPr>
          <a:xfrm>
            <a:off x="990720" y="609480"/>
            <a:ext cx="6933960" cy="495324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5" descr="noctiluca"/>
          <p:cNvPicPr/>
          <p:nvPr/>
        </p:nvPicPr>
        <p:blipFill>
          <a:blip r:embed="rId1"/>
          <a:stretch/>
        </p:blipFill>
        <p:spPr>
          <a:xfrm>
            <a:off x="457200" y="609480"/>
            <a:ext cx="7238880" cy="50292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Alga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hylum Chrysophyt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lden alga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fresh wa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m cys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flagell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rotenoids give col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portant for formation of petroleum deposi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0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5" descr="BRIE014P"/>
          <p:cNvPicPr/>
          <p:nvPr/>
        </p:nvPicPr>
        <p:blipFill>
          <a:blip r:embed="rId1"/>
          <a:stretch/>
        </p:blipFill>
        <p:spPr>
          <a:xfrm>
            <a:off x="685800" y="914400"/>
            <a:ext cx="7162920" cy="51055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5" descr="navic1"/>
          <p:cNvPicPr/>
          <p:nvPr/>
        </p:nvPicPr>
        <p:blipFill>
          <a:blip r:embed="rId1"/>
          <a:stretch/>
        </p:blipFill>
        <p:spPr>
          <a:xfrm>
            <a:off x="609480" y="457200"/>
            <a:ext cx="7162920" cy="57913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7" descr="Mallomonadales"/>
          <p:cNvPicPr/>
          <p:nvPr/>
        </p:nvPicPr>
        <p:blipFill>
          <a:blip r:embed="rId1"/>
          <a:stretch/>
        </p:blipFill>
        <p:spPr>
          <a:xfrm>
            <a:off x="1219320" y="609480"/>
            <a:ext cx="6629400" cy="53341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hylum Euglenophyt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uglenoi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ant-like and animal-like characterist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ny have cholorphyll and are photosynthet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ell wall, mot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live in fresh wa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e picture on page 53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0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5" descr="Euglena_2"/>
          <p:cNvPicPr/>
          <p:nvPr/>
        </p:nvPicPr>
        <p:blipFill>
          <a:blip r:embed="rId1"/>
          <a:stretch/>
        </p:blipFill>
        <p:spPr>
          <a:xfrm>
            <a:off x="609480" y="609480"/>
            <a:ext cx="7162920" cy="55627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5" descr="euglena"/>
          <p:cNvPicPr/>
          <p:nvPr/>
        </p:nvPicPr>
        <p:blipFill>
          <a:blip r:embed="rId1"/>
          <a:stretch/>
        </p:blipFill>
        <p:spPr>
          <a:xfrm>
            <a:off x="304920" y="457200"/>
            <a:ext cx="7315200" cy="57913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ungus-like protis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lime mold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hylum acrasiomyco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ellular slime mol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moeboid mov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hylum Myxomyco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smodial slime mol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ss of plasmodiu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ater mol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hylum Oomyco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ig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hylum Chytridiomyco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ytri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Zoospores with one flagellu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ybe fungi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0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lime mold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5" descr="raspberry%20slime"/>
          <p:cNvPicPr/>
          <p:nvPr/>
        </p:nvPicPr>
        <p:blipFill>
          <a:blip r:embed="rId1"/>
          <a:stretch/>
        </p:blipFill>
        <p:spPr>
          <a:xfrm>
            <a:off x="1143000" y="1438200"/>
            <a:ext cx="7229520" cy="54198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0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6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ater mold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5" descr="Lofng65"/>
          <p:cNvPicPr/>
          <p:nvPr/>
        </p:nvPicPr>
        <p:blipFill>
          <a:blip r:embed="rId1"/>
          <a:stretch/>
        </p:blipFill>
        <p:spPr>
          <a:xfrm>
            <a:off x="914400" y="1905120"/>
            <a:ext cx="7010280" cy="41907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nodeType="clickEffect" fill="hold">
                      <p:stCondLst>
                        <p:cond delay="0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6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haracteristics of Alga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utotroph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ot plants – why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ften contain pyrenoi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hytrid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5" descr="08025$"/>
          <p:cNvPicPr/>
          <p:nvPr/>
        </p:nvPicPr>
        <p:blipFill>
          <a:blip r:embed="rId1"/>
          <a:stretch/>
        </p:blipFill>
        <p:spPr>
          <a:xfrm>
            <a:off x="609480" y="1600200"/>
            <a:ext cx="6934320" cy="41911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0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6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he END…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tructure of Alga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allus or bod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icellular or multicellul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lonial:  Volvoz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lamentous:  Spirogyr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lticellular:  Ul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exual and sexual reprodu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hylum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hylum Chlorophy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hylum Phaeophy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hylum Rhodophy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hylum Bacillariophy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hylum Dinoflagell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hylum Chrysophy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hyla Euglenohy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hylum Chlorophyt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ok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amiliar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5" descr="ChlamydomonasEMLab"/>
          <p:cNvPicPr/>
          <p:nvPr/>
        </p:nvPicPr>
        <p:blipFill>
          <a:blip r:embed="rId1"/>
          <a:stretch/>
        </p:blipFill>
        <p:spPr>
          <a:xfrm>
            <a:off x="2743200" y="1447920"/>
            <a:ext cx="5334120" cy="54100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1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ntinued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een alga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ny different for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ave rise to land plants – why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oroplasts that contain a and b cholorphy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ve carotenoi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ell walls of cellulo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5" descr="Ulva_lactuca_01_06_18_A_600x550"/>
          <p:cNvPicPr/>
          <p:nvPr/>
        </p:nvPicPr>
        <p:blipFill>
          <a:blip r:embed="rId1"/>
          <a:stretch/>
        </p:blipFill>
        <p:spPr>
          <a:xfrm>
            <a:off x="1714680" y="809640"/>
            <a:ext cx="5715000" cy="523872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Ulv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8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lonial Chlorophyt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5" descr="BRIE028P"/>
          <p:cNvPicPr/>
          <p:nvPr/>
        </p:nvPicPr>
        <p:blipFill>
          <a:blip r:embed="rId1"/>
          <a:stretch/>
        </p:blipFill>
        <p:spPr>
          <a:xfrm>
            <a:off x="1447920" y="182880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8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7T11:20:49Z</dcterms:created>
  <dc:creator>teacher</dc:creator>
  <dc:description>Kingdom Protista </dc:description>
  <cp:keywords>Kingdom Protista </cp:keywords>
  <dc:language>en-US</dc:language>
  <cp:lastModifiedBy>RomaK</cp:lastModifiedBy>
  <dcterms:modified xsi:type="dcterms:W3CDTF">2015-09-04T10:52:38Z</dcterms:modified>
  <cp:revision>9</cp:revision>
  <dc:subject/>
  <dc:title>Kingdom Protista </dc:title>
</cp:coreProperties>
</file>